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9E7869-FE81-4B64-8A79-FE7333F494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1d95f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80C580-3628-4BA0-830A-A099E1023A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wikispaces.com/" TargetMode="External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F5DC3F-CBE1-4F76-8120-E1BDC2E69EF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vate Label” refers to the fact that the wiki spaces contained therein can only be accessed and viewed via a District sign-on with a  current username and password.  These wikis are not able to be seen via a typical Internet sear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007D3E-1F04-430D-88D9-2B129AE9AD7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 Sign-on is a convenience for staff and students to access Gmail, Google Docs and Calendar and the West Shore Private Label wik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et Activity - Have participants log in to District Moodle site via Safari web brows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003C3B-3329-43BF-91C6-0E4569E2435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tart Page, you can access other teachers’ Moodle pages for their clas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 learners that they can contact other teachers in the District for their Moodle page enrollment keys to share lesson ide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541EA3-5EDF-4882-BF28-48FAE0FB0EA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ipants are encouraged to go to the commercially available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wikispaces.co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for ideas for the wikis in their classro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k around during the activity to offer help and assista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B99574-C49A-47C0-8F72-8E51ADD610F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ki names must be made up of letters, numbers and hyphens with no spaces and it cannot start with a hyphen.  It should be easy for your students to reme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et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participants create a new wiki space using the name that they created in the last ste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580242-5FEE-4766-8CAD-C9673184E9C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D2D4-9B47-4D6A-9558-69CAABFA0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0BA6-147A-4FB5-9811-BC94D4F7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8183E8-6E4A-4A49-9203-EB1198C4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A24C9A-10AE-4771-AA54-B0706FD0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445A65-7ECE-43AA-912A-C9D74CE3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2490B2-2E9F-43D3-8357-841625DD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3208D1-5307-46FC-8F8A-1FD30319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8D05AE-FC63-46C4-8DCA-FE7F0F42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6EA275-8F49-4761-9AC5-E8E1D1BA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8F601B-2F61-4ED0-B4D4-021B9F9B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55C099-22C0-49F3-97E1-5CF7B758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CB8500-3E88-4578-BC4D-25F9A9587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DEC9-27A6-4B90-B072-BB7DFCFAF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287C3C-4DB4-4D8B-ABE7-6F445E17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690EAD-854C-49EB-8C95-4C4BBCFF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E32FF5-A5DA-44C9-A847-33C46645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0E6A09-3229-489F-B0BB-A1FBCEF8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4C6C98-FBDF-4217-BF98-25B076F2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0BA51E-EB1B-4297-8D2D-297B41B6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684E1F-FFCD-4CE9-974B-CC43D20F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1A4578-0238-44C5-9EC2-83A1B397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BA254F-1E75-4C75-8F3D-12431D8F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266162-D643-4808-8C53-FBB6F5B3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CDD2-784B-41A9-8731-F2B17821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959E1B-A63F-4B1E-AD82-8E5FB6AA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08D34D-0184-4EBC-861E-039C8B27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F69241-47EC-44A0-B4E2-24CCDEFB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FBF0D1-7665-464C-8DD3-DD06AB26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303BC9-C1DE-434A-89C4-2B8DCAC2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1817CF-A70B-415D-9BCB-8B2DDB06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317B85-914B-416D-B133-243E68F0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C786AF-8426-4D09-A925-8204DF4B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6C772F-ED8A-4D65-AB48-131CFB50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042DFB-0861-438B-836C-38E44DA1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EB5733-44D0-4689-B987-E5CC51E4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D578D4-728D-4F20-91DA-7C1DFCA3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6B1550-5FF8-4B00-BA96-91446C4A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24CE5F-4174-4249-B1E0-4289E25C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F254A6-70E7-4604-B134-7F75B69B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B06F8A-F103-46B2-A2EE-0B992E85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4D31FF-3A7D-4D46-BE8F-9A17E1F7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E9F240-4D1C-4E2A-B8EA-A366E485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DF4B7D-22E1-4E1C-A88C-B147C54B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E075278-C9B1-4A43-AA27-8FFCC03A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12B4E4-6D9E-4710-83D7-AF8F557B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0DFD39-72C9-49DE-870B-B1922663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B7B207-4830-466C-8D75-4F40D934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B36141-1D2C-495C-804A-13E08AE00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F61C5BB-39FB-462F-A228-E4C1A6AF4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B9B8-5D7A-4673-A791-95959B75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168C5C-BDF7-4AC1-8C85-71FA02CA9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E73788-4023-4279-88C7-D35135C9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2B3422-C037-402E-B091-D1E00E82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784DD9-6DDB-4FD8-AC4F-4E47D0E4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E27AF4-B645-43C6-9237-E1594BD8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DCE9-B556-4F9C-9115-3C11DA80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1BD82B-C5A9-4859-A54B-4774E40A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E55A32-6503-48F0-B24E-BF2D4361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105213-BF38-4C8D-B6C5-FF6694CB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62112D-9C88-4BE1-9608-06AFE80E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8A3E44-2CAD-4B3B-BE01-E3CFE4A5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CD78BE-D78B-481A-9134-477BAD2E2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91A4CC-CB5C-44AB-ACFB-55B50DE2D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848A9C-74A3-470A-8C2E-F26B3C34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8CF8C6-1079-43F5-88F4-E44841E4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E8956D-BE47-4BCB-9C48-33477C9A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F544-32DB-437B-98F7-226C3FA4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89CF4C-0C2A-4012-B949-D77A3BE2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CC7794-3C31-4352-95CC-D4A73CFB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8518CB-81E5-4BCD-AF49-8040AC1E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238311-C786-4ACC-9F6D-92EE56E3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29C4D9-65C5-425D-A76F-59ACE124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7EB9A8-545F-4303-96C4-0D451D7A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DB1ED1-970D-49B6-B105-0AD03DEA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D451C0-0F23-40AC-BCC7-E5F30A330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3CEF3D-D8EB-465D-95E8-552230E6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0D13D1-77E4-4880-88DE-8AE34E56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6D20-2E73-4F2C-9972-FB70D4C3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D5424C-9221-4489-966B-26526738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30458B-0EC9-4BE4-A397-CCD13F41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3FB3A7-A064-4367-B4DF-EDC5519B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49F7EE-A970-41CB-A899-C359198E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B95B27-A6D5-4364-AA57-87859965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F11AC6-222A-40FA-8000-FF972CD4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C5F6D6-AB28-4AE3-B7CD-BE906009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5FD46B-7DBE-498E-BF44-BB70CA16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630FDD-F478-4BCA-8EE2-5A6F22E7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8ABDB6-448D-46AB-9DDF-068352C02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4974-D705-4907-96A8-7B9D403E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903BAC-36B5-4D8D-BEFA-9FBCAB81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086426-AAC9-40A7-AAA9-E100BAF3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DC914C-82A4-40E0-8786-16149307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24CEF6-84B1-4532-BC2E-62EA7338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9D53A1-4936-467A-AF9F-D06A1D06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365E5D-35E8-40A0-BE9E-1AAB2239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928C05-B537-4247-B191-34461710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46373A-3866-4C01-8078-2804053A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7E9FD7-2194-406C-8FC9-3B8CA67E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644517-9F2D-4761-A70E-C34FBC32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393C-67F1-4D05-975C-1C38192B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0DB83E-80FE-41F2-8C7E-E53FF302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5EE8C8-1BFA-41A3-B740-1AF3B9711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109F4F-1CE1-42CA-9656-7BD602834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D53877-A6EB-4D6E-8B58-9EE83A7A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F86A01-0B36-4DC2-B6F8-09BCDB55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414EA9-811F-477E-867F-D4182C80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0045EC-87BE-4951-A879-E7563B79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95C9EF-BBD7-40B2-A739-D6BDC1CE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8B2416-8989-432F-8BC2-7FB4FB3B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5B8F19-2198-40E4-A595-30FBAC1F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1502-6873-4ADF-9717-68788D9B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203906-2FBD-4BB1-BB94-419CF32B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CB59E5-711D-470E-BCAF-CDD92365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AA7ED7-9075-4C95-A84F-31245E47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E1AA04-FB65-4C7A-AA5A-BA06D0473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B4C2D3-4B22-4BC9-84F1-B593A215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9E4FA2-87F7-4A8D-8441-96E85830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946DAC-374D-4CEA-8F56-09064D54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4CAD26-6A41-43E3-BD38-4F2E2FBC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2300A0-FCC1-4F01-BC18-615079E7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2F26C3-F8E3-4192-8878-85EF67D7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9B1A-5352-4646-891B-C0A2C721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255A02-40F7-4A0F-81F6-6E118A97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37D967-3971-432C-8A43-BA854BCD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21D6E6-D62E-4BED-8FA9-C44300E8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844DBB-7B9C-4731-BF64-C6E50A80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A685F6-A6C8-4548-8E74-2E6ADF6A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AC9C15-034C-45A1-9939-F41F22823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3963E2-0805-4C12-A6A4-4F95FAEF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7082B3-A563-4BDB-B8E2-55678224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AA4004-46B6-46B6-AE92-EF072FD3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487C5A-8B3F-4E42-A8A4-7A44B0D6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3857"/>
            </a:gs>
            <a:gs pos="100000">
              <a:srgbClr val="647e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bbd7f8">
                  <a:alpha val="1176"/>
                </a:srgbClr>
              </a:gs>
              <a:gs pos="100000">
                <a:srgbClr val="bbd7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5bbc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c2c9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1d9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80b60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80b60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ccc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Last updated on </a:t>
            </a:r>
            <a:fld id="{F84D76D0-4659-4DCB-9426-6267D52094B5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lide 2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89560" y="6481800"/>
            <a:ext cx="9032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lide 2-</a:t>
            </a:r>
            <a:fld id="{FB29DF5A-C7EF-48CA-99DF-C08853153C1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1d9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80b60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80b60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ccc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7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6A3430-5F21-4163-9AD0-9EA4DEC151BB}" type="datetime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8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Slide 2-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9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8A1ED3-A3F1-4DDD-B93B-23E8DD892BA4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3857"/>
            </a:gs>
            <a:gs pos="100000">
              <a:srgbClr val="647e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bbd7f8">
                  <a:alpha val="1176"/>
                </a:srgbClr>
              </a:gs>
              <a:gs pos="100000">
                <a:srgbClr val="bbd7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5bbc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c2c9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1d9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80b60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80b60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ccc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0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B1B443-89DC-4086-91FB-1EA2252DDB12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1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lide 2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2"/>
          </p:nvPr>
        </p:nvSpPr>
        <p:spPr>
          <a:xfrm>
            <a:off x="7189560" y="6481800"/>
            <a:ext cx="9032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01C8B0-87EC-41CB-8E70-82EF63AADCA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3857"/>
            </a:gs>
            <a:gs pos="100000">
              <a:srgbClr val="647e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bbd7f8">
                  <a:alpha val="1176"/>
                </a:srgbClr>
              </a:gs>
              <a:gs pos="100000">
                <a:srgbClr val="bbd7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5bbc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c2c9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1d9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80b60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80b60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ccc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0778E6-C909-4E1C-9FC9-C248BBA7AC91}" type="datetime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Slide 2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5"/>
          </p:nvPr>
        </p:nvSpPr>
        <p:spPr>
          <a:xfrm>
            <a:off x="7189560" y="6481800"/>
            <a:ext cx="9032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BA146D-1FD6-499B-8315-02DC7AC2B024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3857"/>
            </a:gs>
            <a:gs pos="100000">
              <a:srgbClr val="647e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bbd7f8">
                  <a:alpha val="1176"/>
                </a:srgbClr>
              </a:gs>
              <a:gs pos="100000">
                <a:srgbClr val="bbd7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5bbc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c2c9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1d9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80b60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80b60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ccc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315CFA-46B5-4F41-AA64-157BA67A17D9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Slide 2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3857"/>
            </a:gs>
            <a:gs pos="100000">
              <a:srgbClr val="647e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bbd7f8">
                  <a:alpha val="1176"/>
                </a:srgbClr>
              </a:gs>
              <a:gs pos="100000">
                <a:srgbClr val="bbd7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5bbc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c2c9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1d9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80b60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80b60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ccc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329872-6760-4712-99C3-7C101C539170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lide 2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7189560" y="6481800"/>
            <a:ext cx="9032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5AA5C9-9F8B-473B-80B9-0C9647A6075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bbd7f8">
                  <a:alpha val="1176"/>
                </a:srgbClr>
              </a:gs>
              <a:gs pos="100000">
                <a:srgbClr val="bbd7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28500"/>
              </a:gs>
              <a:gs pos="100000">
                <a:srgbClr val="b4ed7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ec2c9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5bbc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1d9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80b60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80b60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ccc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9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3770DA-F400-4A89-A412-3C5B2AB41BC7}" type="datetime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0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Slide 2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1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0BA275-AF95-414E-B612-0B49BDE90882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3857"/>
            </a:gs>
            <a:gs pos="100000">
              <a:srgbClr val="647e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bbd7f8">
                  <a:alpha val="1176"/>
                </a:srgbClr>
              </a:gs>
              <a:gs pos="100000">
                <a:srgbClr val="bbd7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5bbc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c2c9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1d9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80b60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80b60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ccc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E3F0F2-D87B-49A0-BB26-8E251845FA5D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lide 2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7189560" y="6481800"/>
            <a:ext cx="9032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84BF8D-D956-4B84-A769-BB3F0A78416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3857"/>
            </a:gs>
            <a:gs pos="100000">
              <a:srgbClr val="647e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1d9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80b60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80b60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ccc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5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ECC0CE-DE40-428E-A95C-B1716DBB05D7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6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lide 2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7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B2F58F-B437-4248-99B2-6F25948A12B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3857"/>
            </a:gs>
            <a:gs pos="100000">
              <a:srgbClr val="647e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bbd7f8">
                  <a:alpha val="1176"/>
                </a:srgbClr>
              </a:gs>
              <a:gs pos="100000">
                <a:srgbClr val="bbd7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5bbc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c2c9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1d9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80b60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80b60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ccc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8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D0A25D-6A8C-45C0-85BA-9F957E8EC1E6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9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lide 2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0"/>
          </p:nvPr>
        </p:nvSpPr>
        <p:spPr>
          <a:xfrm>
            <a:off x="7189560" y="6481800"/>
            <a:ext cx="9032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ACB883-C7C9-4961-9D9A-900617B9145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3857"/>
            </a:gs>
            <a:gs pos="100000">
              <a:srgbClr val="647e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bbd7f8">
                  <a:alpha val="1176"/>
                </a:srgbClr>
              </a:gs>
              <a:gs pos="100000">
                <a:srgbClr val="bbd7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5bbc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c2c9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1d9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80b60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80b60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ccc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5D923E-4ACC-4B97-9947-7CAC21B61486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lide 2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3"/>
          </p:nvPr>
        </p:nvSpPr>
        <p:spPr>
          <a:xfrm>
            <a:off x="7189560" y="6481800"/>
            <a:ext cx="9032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F5DBDD-E9B3-45C6-8967-426D55D1898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3857"/>
            </a:gs>
            <a:gs pos="100000">
              <a:srgbClr val="647e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1d9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80b60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80b60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ccc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4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41FD3B-1174-4498-98C4-B4052D2B2B85}" type="datetime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5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Slide 2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6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66FAE1-61A8-4808-AC6E-BD38156EE3A5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wikispaces.com/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3857"/>
            </a:gs>
            <a:gs pos="100000">
              <a:srgbClr val="647e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071200" cy="1481400"/>
          </a:xfrm>
          <a:prstGeom prst="rect">
            <a:avLst/>
          </a:prstGeom>
          <a:ln w="0">
            <a:noFill/>
          </a:ln>
        </p:spPr>
      </p:pic>
      <p:pic>
        <p:nvPicPr>
          <p:cNvPr id="527" name="Subtitle 2" descr=""/>
          <p:cNvPicPr/>
          <p:nvPr/>
        </p:nvPicPr>
        <p:blipFill>
          <a:blip r:embed="rId2"/>
          <a:stretch/>
        </p:blipFill>
        <p:spPr>
          <a:xfrm>
            <a:off x="536400" y="2243160"/>
            <a:ext cx="8071200" cy="1768320"/>
          </a:xfrm>
          <a:prstGeom prst="rect">
            <a:avLst/>
          </a:prstGeom>
          <a:ln w="0">
            <a:noFill/>
          </a:ln>
        </p:spPr>
      </p:pic>
      <p:sp>
        <p:nvSpPr>
          <p:cNvPr id="528" name="TextBox 9"/>
          <p:cNvSpPr/>
          <p:nvPr/>
        </p:nvSpPr>
        <p:spPr>
          <a:xfrm>
            <a:off x="7696080" y="6299280"/>
            <a:ext cx="74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lide 2-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3857"/>
            </a:gs>
            <a:gs pos="100000">
              <a:srgbClr val="647e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530" name="Content Placeholder 3" descr="138433090_81999aa620.jpg"/>
          <p:cNvPicPr/>
          <p:nvPr/>
        </p:nvPicPr>
        <p:blipFill>
          <a:blip r:embed="rId2"/>
          <a:srcRect l="-17495" t="0" r="-17495" b="0"/>
          <a:stretch/>
        </p:blipFill>
        <p:spPr>
          <a:xfrm>
            <a:off x="457200" y="19144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531" name="TextBox 4"/>
          <p:cNvSpPr/>
          <p:nvPr/>
        </p:nvSpPr>
        <p:spPr>
          <a:xfrm>
            <a:off x="914400" y="6210360"/>
            <a:ext cx="82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Photo used with permission from:  http://farm1.static.flickr.com/52/138433090_81999aa620.j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Box 11"/>
          <p:cNvSpPr/>
          <p:nvPr/>
        </p:nvSpPr>
        <p:spPr>
          <a:xfrm>
            <a:off x="7696080" y="6407280"/>
            <a:ext cx="74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lide 2-2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3857"/>
            </a:gs>
            <a:gs pos="100000">
              <a:srgbClr val="647e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 txBox="1"/>
          <p:nvPr/>
        </p:nvSpPr>
        <p:spPr>
          <a:xfrm>
            <a:off x="457200" y="188244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 single sign-on to Moodle allows users to access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ogle Calenda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ogle Doc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st Shore Private Label Wiki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5" name="TextBox 10"/>
          <p:cNvSpPr/>
          <p:nvPr/>
        </p:nvSpPr>
        <p:spPr>
          <a:xfrm>
            <a:off x="7696080" y="6299280"/>
            <a:ext cx="74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lide 2-3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Box 4"/>
          <p:cNvSpPr/>
          <p:nvPr/>
        </p:nvSpPr>
        <p:spPr>
          <a:xfrm>
            <a:off x="457200" y="5954760"/>
            <a:ext cx="56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et Ac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3857"/>
            </a:gs>
            <a:gs pos="100000">
              <a:srgbClr val="647e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538" name="Content Placeholder 4" descr="Picture 1.png"/>
          <p:cNvPicPr/>
          <p:nvPr/>
        </p:nvPicPr>
        <p:blipFill>
          <a:blip r:embed="rId2"/>
          <a:srcRect l="0" t="-1363" r="0" b="-1363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539" name="TextBox 3"/>
          <p:cNvSpPr/>
          <p:nvPr/>
        </p:nvSpPr>
        <p:spPr>
          <a:xfrm>
            <a:off x="7696080" y="6407280"/>
            <a:ext cx="74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lide 2-4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3857"/>
            </a:gs>
            <a:gs pos="100000">
              <a:srgbClr val="647e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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nternet Activit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0f0"/>
                </a:solidFill>
                <a:uFillTx/>
                <a:latin typeface="Century Gothic"/>
                <a:hlinkClick r:id="rId2"/>
              </a:rPr>
              <a:t>www.wikispaces.co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on Sign In and create an account using your District email account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arch for wikis in your teaching are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You will have 5 minutes for this activit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42" name="Content Placeholder 12" descr=""/>
          <p:cNvPicPr/>
          <p:nvPr/>
        </p:nvPicPr>
        <p:blipFill>
          <a:blip r:embed="rId3"/>
          <a:srcRect l="-11479" t="0" r="-11479" b="0"/>
          <a:stretch/>
        </p:blipFill>
        <p:spPr>
          <a:xfrm>
            <a:off x="4648320" y="17226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43" name="TextBox 3"/>
          <p:cNvSpPr/>
          <p:nvPr/>
        </p:nvSpPr>
        <p:spPr>
          <a:xfrm>
            <a:off x="7696080" y="6454800"/>
            <a:ext cx="74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lide 2-5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3857"/>
            </a:gs>
            <a:gs pos="100000">
              <a:srgbClr val="647e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istrict Private-Label Wik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on “Make a New Wiki”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aming conventio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80b60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Letters, numbers and hyphen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80b60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No spac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80b60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annot start with a hyphen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80b60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Easily remembered by student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7" name="TextBox 4"/>
          <p:cNvSpPr/>
          <p:nvPr/>
        </p:nvSpPr>
        <p:spPr>
          <a:xfrm>
            <a:off x="7696080" y="6299280"/>
            <a:ext cx="74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lide 2-6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Box 5"/>
          <p:cNvSpPr/>
          <p:nvPr/>
        </p:nvSpPr>
        <p:spPr>
          <a:xfrm>
            <a:off x="457200" y="5987880"/>
            <a:ext cx="35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et Ac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5:22:44Z</dcterms:created>
  <dc:creator>Teacher</dc:creator>
  <dc:description/>
  <dc:language>en-US</dc:language>
  <cp:lastModifiedBy>Teacher</cp:lastModifiedBy>
  <dcterms:modified xsi:type="dcterms:W3CDTF">2011-03-29T15:36:51Z</dcterms:modified>
  <cp:revision>3</cp:revision>
  <dc:subject/>
  <dc:title>West Shore School District Moodle and Wikispace</dc:title>
</cp:coreProperties>
</file>